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597-4A95-4C75-BE6A-A75F4398B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AEFF-C959-49BB-8382-9C25CD4C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21D-77EA-470C-9FAC-56686386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0A5C-7527-493B-BCF9-F0E9D420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EF7-980D-40C0-A432-41F6F79F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1A7A-E5FA-4368-B51E-AB367AD38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96E5-14A6-4B6B-9BBE-4AFD3A13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642-DAE9-498E-B2F6-C66A53D5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18FC-9097-49AE-89FF-AD5F8050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1601-1B07-4FA2-93AC-27BC1AE6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1AD-1F99-46CC-AE1F-27F37D88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2DD-94B7-4A61-A88F-40AAA733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0250C-5380-4B46-8629-47ADF3B0C6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0DC6-0767-4428-A27D-2C3A0D17AC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6640" y="1376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рожная карта проекта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здание новой модели медицинской организации/, оказывающей первичную медико-санитарную помощь» в «ГБУЗ Кузнецкая межрайонная больница», поликлиника №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76120" y="2093760"/>
          <a:ext cx="8526600" cy="468504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30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</a:tblGrid>
              <a:tr h="6303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-10.02.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-17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-25.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2-03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3.-10.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3 государственном бюджетном учреждении здравоохранения  Кузнецкая межрайонная больница рабочую группу по реализации приоритетного проекта «Создание новой модели медицинской организации, оказывающей первичную медико-санитарную   помощь» на территории поликлиники№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лидеров рабочей группы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сти анкетирование сотрудников, выбрать ключевые проблемы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овести анкетирование о здоровом образе жизни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ределить направление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ТПР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64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ить ориентированную смету расходов на реализацию проекта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Заголовок 1"/>
          <p:cNvSpPr/>
          <p:nvPr/>
        </p:nvSpPr>
        <p:spPr>
          <a:xfrm>
            <a:off x="5367240" y="76320"/>
            <a:ext cx="34290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Потапов А.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04»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врал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9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Заголовок 1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26880" y="544680"/>
          <a:ext cx="8431200" cy="3767040"/>
        </p:xfrm>
        <a:graphic>
          <a:graphicData uri="http://schemas.openxmlformats.org/drawingml/2006/table">
            <a:tbl>
              <a:tblPr/>
              <a:tblGrid>
                <a:gridCol w="411480"/>
                <a:gridCol w="2098440"/>
                <a:gridCol w="484200"/>
                <a:gridCol w="372960"/>
                <a:gridCol w="387360"/>
                <a:gridCol w="381240"/>
                <a:gridCol w="423720"/>
                <a:gridCol w="35712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2440"/>
                <a:gridCol w="351000"/>
                <a:gridCol w="350640"/>
              </a:tblGrid>
              <a:tr h="78876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3-22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-30.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5-08.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работы членов рабочей группы  по выбранному направлению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из и обсуждение полученных результат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93560" y="5475240"/>
          <a:ext cx="7013880" cy="297000"/>
        </p:xfrm>
        <a:graphic>
          <a:graphicData uri="http://schemas.openxmlformats.org/drawingml/2006/table">
            <a:tbl>
              <a:tblPr/>
              <a:tblGrid>
                <a:gridCol w="7013880"/>
              </a:tblGrid>
              <a:tr h="2970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уководитель проекта                                          зав. поликлиникой   И.В. Архангель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26T11:59:56Z</cp:lastPrinted>
  <dcterms:modified xsi:type="dcterms:W3CDTF">2019-02-04T13:08:13Z</dcterms:modified>
  <cp:revision>350</cp:revision>
  <dc:subject/>
  <dc:title>Слайд 1</dc:title>
</cp:coreProperties>
</file>